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62E0-3D2C-4993-BD59-06CE35277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25C-1B82-4F90-9011-6C7EC72F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AE8-1E86-4316-A0F1-4E6A4ADE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B27-6D22-4943-9A58-49C327BD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A3E-3E46-438F-A4BA-47A4E2E6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C16-D2DD-4641-936B-3DF8AF5A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257-E0C3-41D8-AAB7-696183F1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8F0-93A3-4A51-AB2C-1B93AD68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D47-9298-45DE-BA75-AE791B5D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531-8ECD-4D5A-AFEC-A83FEC98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014-E7D7-4A6A-99C9-0DAAC132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731-6D1A-49C3-B669-C8BEF9C5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67F-626A-4F27-93C6-9D48B136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AE79-2AF1-452D-9846-B73AF5527EFF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71680" y="228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47640" y="204300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609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rowth and Decay are largely used in: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2895480" y="1457280"/>
            <a:ext cx="335304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80880" y="3809880"/>
            <a:ext cx="35053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atural Scienc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29200" y="3886200"/>
            <a:ext cx="36576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cial Sci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91440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rowth can be modeled by the function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129528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4648320" y="1447920"/>
                <a:ext cx="425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 Box 8"/>
          <p:cNvSpPr/>
          <p:nvPr/>
        </p:nvSpPr>
        <p:spPr>
          <a:xfrm>
            <a:off x="457200" y="380988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le Decay can be modeled by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572000" y="388620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4648320" y="4038480"/>
                <a:ext cx="42526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914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(t) represents the amount at a certain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19320"/>
            <a:ext cx="4343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is the initial amoun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3809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 = rat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3809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 =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21:52Z</dcterms:created>
  <dc:creator>Chester Area School</dc:creator>
  <dc:description/>
  <dc:language>en-US</dc:language>
  <cp:lastModifiedBy>RomaK</cp:lastModifiedBy>
  <dcterms:modified xsi:type="dcterms:W3CDTF">2015-09-04T07:41:59Z</dcterms:modified>
  <cp:revision>15</cp:revision>
  <dc:subject/>
  <dc:title>PowerPoint Presentation</dc:title>
</cp:coreProperties>
</file>